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8E8-F05D-44DD-99B6-6A934AEE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73-E265-47A9-BE49-A61A0544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40B-9965-4EA1-B1F5-81A16E78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205-5634-4785-B20F-5D66976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EF0-57DB-4A59-B1BE-E1C1899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502-9B2F-4F8A-83A9-E568B69A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7B8-8DBB-408A-A8F4-AE7DA62A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702-B87C-46A4-ACDE-46AA3DA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732-BE90-416A-8529-5471F86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A07-873B-4B4D-8A11-DF846C27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2D5-0269-4B4B-8287-72CAC12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B99-F153-42A3-8817-7D0C1171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5559-703A-4C7A-AD37-17E86778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498920" cy="3368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4211640" y="0"/>
            <a:ext cx="4788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7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правил е цветята? Кой с росица ги пои?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 Кой им даде аромата? Кой ги с краски укра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4800600" cy="3809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3492360" y="18900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 птичките крилата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л е леко да летят?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учи ги гнездата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шумата да си стро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790880" cy="3247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348000" y="476280"/>
            <a:ext cx="54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Мравчицата кой научи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си скътва туй житце,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пчелата мед да смуче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т красивото цветч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838600"/>
            <a:ext cx="5184720" cy="3686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3995640" y="33336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Всичко Ти направи, Боже, Ти Си всичко наредил! Птичката да хвърка може, че крилца Си й дар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8920" y="459576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и направи небесата, деня ясен и нощта.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 Тебе славят на земята и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й-малките неща!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12:42Z</dcterms:created>
  <dc:creator>TrifonTrifonow</dc:creator>
  <dc:description/>
  <dc:language>en-US</dc:language>
  <cp:lastModifiedBy>TrifonTrifonow</cp:lastModifiedBy>
  <dcterms:modified xsi:type="dcterms:W3CDTF">2005-12-08T07:44:05Z</dcterms:modified>
  <cp:revision>13</cp:revision>
  <dc:subject/>
  <dc:title>Slide 1</dc:title>
</cp:coreProperties>
</file>